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D5F-2BFF-499A-BCB0-D77580C1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BAF-D6B8-4AA6-B19E-E080CA4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5D8-AA51-4C2F-A56F-CB5606B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EC5-F2FF-46DF-826B-2F62FA65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CE3-0ED5-488D-8405-229F119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C20-F141-470D-AB3B-9C04B54A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E51-9026-42A9-8E39-D80704B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7B8-4235-4E90-A7CB-1307EDD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00B-1DA1-443C-B19A-B75F6A29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0AE-0044-4B22-9073-F9B9AD3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CCB-73C9-43D0-AECE-C949D14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13C-075C-4BD3-8C3C-BF6C201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F0B6-B218-4033-BC6E-D7A8D6E2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Point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8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ng Sing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llocate single memory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new char; // Allocates one char and points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rt* pShort = new 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new 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the cells to certai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Char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Short = 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Int = 4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ree the memory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ng Array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new char[100]; // Allocate array of 100 ch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har[0]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har[99] = 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pChar; // Must not forget the []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orget the [] when deleting arrays, then only the first cell will be freed. The rest cannot be used until program ex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 error is to allocate memory more than once without del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NULL; // Safe to point to NUL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t = new int; // Allocate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Int; // Clean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leaked 9*4 = 36 bytes of mem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gling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on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1 = new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2 = pChar1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ake pChar2 point to the same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 pCha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Char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Char2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Char2 is a dangling poin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C++ introduced reference parameters t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, programmers were forced to use pointers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rror prone, more difficult to read, and t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 using pointers (also works in C++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hangeInput(int* p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Val = 5; // pVal may be NU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++ using references (does not work in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hangeInput(int&amp; r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Val = 5; // Guaranteed rVal refers to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arr[] = "Hello!"; // Declare a char array (null-termin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Arr = arr; // Pointer to char – same as ar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r[0] = 'F'; // Use [] operator with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pArr = arr; *pArr != '\0'; ++pArr) // Very funky co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Arr = (*pArr) + 1; // Increment ASCII value b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3200" y="541008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F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Gfmm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rtain types on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truncation that occurs from intege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pointers of one type to point to data of anothe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Div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OfSwings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OfHits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battingAverage = numOfHits / numOfSwing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Batting Average: %f”, battingAver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ing Average: 0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battingAverage = ((float)numOfHits) / numOfSwing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ing Average: 0.33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asting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var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o problem, types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ll not compi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(int*)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wor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areful when using type casts! We will see wh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Cas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buffer; // No type cast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*pCh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rt* pShort = (short*)buffer; // Must cast from char* to shor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(char)*pSh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(int*)buffer; // Must cast from char* to i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(char)*p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ointers you can allocate memory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locate either one memory cell, or an array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ways remember to free allocated mem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22:23:41Z</dcterms:created>
  <dc:creator>Antonio Maiorano</dc:creator>
  <dc:description/>
  <dc:language>en-US</dc:language>
  <cp:lastModifiedBy>Tony</cp:lastModifiedBy>
  <dcterms:modified xsi:type="dcterms:W3CDTF">2003-08-23T18:08:32Z</dcterms:modified>
  <cp:revision>34</cp:revision>
  <dc:subject/>
  <dc:title>C/C++ Tutorial</dc:title>
</cp:coreProperties>
</file>